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3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0EC7-CA44-40A1-8208-2BDA73286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98D5-39FE-4099-893D-8C7E1DC9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3390-1C10-47D3-9A4F-355813680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20BB-D2E8-493A-B150-35AAA7F0B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CA5D-219F-409A-815C-26B6ED7C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1CEA-5FF6-4EEA-A707-D897C810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882A-E88E-4C00-AB13-F9267E29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CC3F-0F01-4CEF-A189-E87E4F3A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E114-0504-43AD-9E47-E504C376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6340-23B3-4FC9-A009-AA4D670C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219E-C07E-4700-88B4-ED322E21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5674-D52F-447A-B6EC-49F866DF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CD0C-ECFE-4D49-B2F0-200322B1F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flickr.com/photos/jarod_uses_film/2757094669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lickr.com/photos/jarod_uses_film/2750741699/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lickr.com/photos/rohanphillips/212962613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lickr.com/photos/29051967@N03/2846274202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lickr.com/photos/roosfotos/125601830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lickr.com/photos/9755788@N08/3022638387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1484280"/>
            <a:ext cx="8352000" cy="417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 pairs, tell each other what you like and dislike doing in your free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¿Qué te gusta hacer en tu tiempo lib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Por ejemplo: Me encanta le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55640" y="4149720"/>
            <a:ext cx="784872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practicar           la gimnasi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6/17  Olympic Gymnastics - Balance Beam by Jarod_Uses_Fil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754200"/>
            <a:ext cx="487836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55640" y="4149720"/>
            <a:ext cx="784872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practicar           la nataci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  <a:ea typeface="Arial"/>
              </a:rPr>
              <a:t>ó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4/17  Olympic Swimming by Jarod_Uses_Fil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189000"/>
            <a:ext cx="561672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55640" y="4149720"/>
            <a:ext cx="784872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practicar           la equitaci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  <a:ea typeface="Arial"/>
              </a:rPr>
              <a:t>ó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Horseriding in Hua Hin Thailand by rollontravel"/>
          <p:cNvPicPr/>
          <p:nvPr/>
        </p:nvPicPr>
        <p:blipFill>
          <a:blip r:embed="rId1"/>
          <a:stretch/>
        </p:blipFill>
        <p:spPr>
          <a:xfrm>
            <a:off x="2124000" y="260280"/>
            <a:ext cx="482436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55640" y="4149720"/>
            <a:ext cx="784872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practicar           el esqu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December 9th: Skiing Elf by hober"/>
          <p:cNvPicPr/>
          <p:nvPr/>
        </p:nvPicPr>
        <p:blipFill>
          <a:blip r:embed="rId1"/>
          <a:stretch/>
        </p:blipFill>
        <p:spPr>
          <a:xfrm>
            <a:off x="2771640" y="189000"/>
            <a:ext cx="2862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55640" y="4149720"/>
            <a:ext cx="784872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practicar           el atlet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  <a:ea typeface="Arial"/>
              </a:rPr>
              <a:t>ism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Athletics - 4x100m relay by 713 Avenue"/>
          <p:cNvPicPr/>
          <p:nvPr/>
        </p:nvPicPr>
        <p:blipFill>
          <a:blip r:embed="rId1"/>
          <a:stretch/>
        </p:blipFill>
        <p:spPr>
          <a:xfrm>
            <a:off x="1476360" y="260280"/>
            <a:ext cx="554364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55640" y="4149720"/>
            <a:ext cx="784872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practicar           el ciclism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LEGO Tandam - By Bobasonic 2005 by Bobasonic"/>
          <p:cNvPicPr/>
          <p:nvPr/>
        </p:nvPicPr>
        <p:blipFill>
          <a:blip r:embed="rId1"/>
          <a:stretch/>
        </p:blipFill>
        <p:spPr>
          <a:xfrm>
            <a:off x="1835280" y="260280"/>
            <a:ext cx="482436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4360" y="189000"/>
            <a:ext cx="7921440" cy="612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Los deportes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rite these down in 3 colum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(sports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Me gusta / me da igual / no me gus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ugar al balonman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o play handb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ugar al baloncest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o play basketb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ugar al fútbol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o play footb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ugar al tení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o play tenn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ugar al rugby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o play rug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acticar la gimnasia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o do gy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acticar el esquí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o go ski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acticar la natación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o go swi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acticar la equitación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o go horse ri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acticar el piragüismo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o go canoe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acticar el atletism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o do athle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acticar el ciclism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o go cyc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w try writing at least 3 phrases for your opinions of sport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e encanta jugar al fútb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39640" y="2349360"/>
          <a:ext cx="8209080" cy="318960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 depor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155736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) to revise saying what leisure activities you enjoy or dis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) to learn 12 sports and the KEY difference between 2 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539640" y="2349360"/>
          <a:ext cx="8209080" cy="318960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 depor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55640" y="4149720"/>
            <a:ext cx="784872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jugar                 al f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  <a:ea typeface="Arial"/>
              </a:rPr>
              <a:t>útbo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Football - Men DSC_0063 by MonteCristo Pictures"/>
          <p:cNvPicPr/>
          <p:nvPr/>
        </p:nvPicPr>
        <p:blipFill>
          <a:blip r:embed="rId1"/>
          <a:stretch/>
        </p:blipFill>
        <p:spPr>
          <a:xfrm>
            <a:off x="1763640" y="260280"/>
            <a:ext cx="554508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55640" y="4149720"/>
            <a:ext cx="784872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jugar                 al baloncest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Prach basketball portrait 1 by Rohan Philli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333360"/>
            <a:ext cx="524664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55640" y="4149720"/>
            <a:ext cx="784872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jugar                  al balonman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79640" y="260280"/>
            <a:ext cx="482436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55640" y="4149720"/>
            <a:ext cx="784872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jugar                 al ten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  <a:ea typeface="Arial"/>
              </a:rPr>
              <a:t>í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Unused tennis balls by DaDaAc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477720"/>
            <a:ext cx="509436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55640" y="4149720"/>
            <a:ext cx="784872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jugar                 al rugb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Rugby Ball by Ms. Soccer_Ro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333360"/>
            <a:ext cx="2808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55640" y="4149720"/>
            <a:ext cx="784872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practicar           el pirag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  <a:ea typeface="Arial"/>
              </a:rPr>
              <a:t>üism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Piraguismo by Kurtney8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189000"/>
            <a:ext cx="5040360" cy="37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7:07:11Z</dcterms:created>
  <dc:creator>Owner1</dc:creator>
  <dc:description/>
  <dc:language>en-US</dc:language>
  <cp:lastModifiedBy>Owner1</cp:lastModifiedBy>
  <dcterms:modified xsi:type="dcterms:W3CDTF">2008-12-16T19:43:49Z</dcterms:modified>
  <cp:revision>2</cp:revision>
  <dc:subject/>
  <dc:title>Slide 1</dc:title>
</cp:coreProperties>
</file>